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19CF-9388-457A-B94A-1AE1AC86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89E5-ADBF-41D5-8B21-2524E9F63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974-EB75-4E67-B73C-4DA536759F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5BC-1361-4B90-93EF-817F28840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707-3663-4EA0-B9B1-36DC3A158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756-72EE-4F36-A108-78AF4E5D8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D01-AAE6-4131-BB69-4A299FE93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688D-6D8C-4E3D-86A9-327B4EC2F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EF9F-C9EA-44AC-BDFF-D9220A25C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694-8E6D-45A2-B26C-2F25B36EA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A85A-F798-4D89-AC5A-EC5F85285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EFE-A7DA-4B08-91E9-735967245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529-2C2F-41A6-BF67-2911356B4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ACF-0D84-466B-8A32-0C4AA2A6E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602-E3D2-4595-9FC4-6A7F04E39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EE09-7F4F-41F6-A684-2E15E6B17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64C-A95C-481A-872F-292C59D09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FE2-963E-4593-B940-3A0B5ED74E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DF3-4A6C-492B-A41E-CCEA47D10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19CF-C70D-42A3-9981-CDA905472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9C3-37FA-4694-BDE5-1AD52BA2C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1384-C1C7-459D-A9C7-51C2475C3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457F-49A2-4E1A-B22E-3F9966B771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65CA-1991-4EEF-B6C9-B93D039DB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501-0A2C-4BEB-AE53-2ABB858D7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9344-0B86-4FC7-9EEC-D54317665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F543-AE14-4F56-B6B7-D7771823E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A2E0-6B8B-4137-9B69-51D1B7CDE2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65F-C411-460B-9CB4-EE2EF02F0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607-31CD-47FD-BECB-6D18B7D2F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37D0-2E87-4BBB-811D-D6BFAED31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103-3714-478A-88E7-87C37F67F7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5DD-98EC-427C-8353-8EC771AAA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6EC-0E33-4B56-BB02-A334A2782E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E8D-5E33-4A2C-BA13-60A405C91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7997-459E-4CEA-9840-74E740B422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B054-41ED-4A26-96DE-9E6D050AC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BF7-CA37-44C1-B8E7-218BCC6D84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F33-25CF-4875-BE81-B32A5195F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450-C9CF-4EC8-81B4-798B8B7D0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FE5-D947-4C09-96E9-43E399AD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3C6-A415-4CA2-8B84-1B00554F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1ED-BE45-4E98-9BD8-0883C295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CE5-9EFB-4EF3-B9B1-67FB827E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AD0-1645-4A73-83FD-FFB8B29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AAA-9FE3-444E-B3B0-8C567F9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70A-E4D2-48F4-8ABD-53F30DDC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6C6-C20D-4B47-A1AB-BB5AA28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6AE-B3F9-407D-90CF-76F59D4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BC5-CF1E-4966-B448-A1B8256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DD7-81F1-4F76-8E8D-3B37382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965-D3B2-4F3B-BFEF-F5E10DF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F6B-6ED9-4CEA-A734-9520D7C07EA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 Numb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3774960" y="2739960"/>
          <a:ext cx="159228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4960" y="2739960"/>
                    <a:ext cx="15922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25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3352680" y="2514600"/>
          <a:ext cx="23194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23194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.7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276720" y="2514600"/>
          <a:ext cx="25477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25477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9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ahoma"/>
              </a:rPr>
              <a:t>1.23178…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3200400" y="2590920"/>
          <a:ext cx="262404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90920"/>
                    <a:ext cx="262404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.48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2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819520" y="2365200"/>
          <a:ext cx="2819160" cy="25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365200"/>
                    <a:ext cx="2819160" cy="25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390840" y="1981080"/>
          <a:ext cx="114480" cy="1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0840" y="198108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3809880" y="2057400"/>
          <a:ext cx="14162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057400"/>
                    <a:ext cx="1416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6:57Z</dcterms:created>
  <dc:creator>Parkland High School</dc:creator>
  <dc:description/>
  <dc:language>en-US</dc:language>
  <cp:lastModifiedBy>test</cp:lastModifiedBy>
  <dcterms:modified xsi:type="dcterms:W3CDTF">2014-09-05T17:51:37Z</dcterms:modified>
  <cp:revision>2</cp:revision>
  <dc:subject/>
  <dc:title>Real Numbers </dc:title>
</cp:coreProperties>
</file>